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12.png" ContentType="image/png"/>
  <Override PartName="/ppt/media/image18.png" ContentType="image/png"/>
  <Override PartName="/ppt/media/image34.jpeg" ContentType="image/jpeg"/>
  <Override PartName="/ppt/media/image37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20.png" ContentType="image/png"/>
  <Override PartName="/ppt/media/image2.jpeg" ContentType="image/jpeg"/>
  <Override PartName="/ppt/media/image38.png" ContentType="image/png"/>
  <Override PartName="/ppt/media/image8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D01-1EC7-4973-B8C7-524D27BF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F10-412D-4BE2-A75C-87E0B3A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ACE-03B8-49E6-8FBF-C0E3B351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6D9-90A6-4426-8DB8-C7D2345D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EBF-BBC8-4862-82ED-887A77D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A48-58B3-41EB-A848-6D83A04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3ED-3856-41CC-94DF-85C0B39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F2B-54AD-4C70-9975-A189F64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EA7-B838-499A-A812-8141F177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F96-821C-424E-804C-2D62546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57F-8D05-49CF-8D70-497438E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6D-E999-4DEF-88DA-EF7277A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021B-5FF2-4D44-B36C-D555E588F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original.jpg"/>
          <p:cNvPicPr/>
          <p:nvPr/>
        </p:nvPicPr>
        <p:blipFill>
          <a:blip r:embed="rId1"/>
          <a:stretch/>
        </p:blipFill>
        <p:spPr>
          <a:xfrm>
            <a:off x="-184320" y="0"/>
            <a:ext cx="9328320" cy="70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peterburg.biz/images/dost/bridges/fin3b.jpg"/>
          <p:cNvPicPr/>
          <p:nvPr/>
        </p:nvPicPr>
        <p:blipFill>
          <a:blip r:embed="rId2"/>
          <a:stretch/>
        </p:blipFill>
        <p:spPr>
          <a:xfrm>
            <a:off x="-1143000" y="0"/>
            <a:ext cx="10858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Заголовок 1"/>
          <p:cNvGrpSpPr/>
          <p:nvPr/>
        </p:nvGrpSpPr>
        <p:grpSpPr>
          <a:xfrm>
            <a:off x="2451240" y="5364000"/>
            <a:ext cx="4456080" cy="1092240"/>
            <a:chOff x="2451240" y="5364000"/>
            <a:chExt cx="4456080" cy="1092240"/>
          </a:xfrm>
        </p:grpSpPr>
        <p:pic>
          <p:nvPicPr>
            <p:cNvPr id="85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2451240" y="5364000"/>
              <a:ext cx="44560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700" spc="-1" strike="noStrike">
                  <a:solidFill>
                    <a:srgbClr val="ffffff"/>
                  </a:solidFill>
                  <a:latin typeface="Calibri"/>
                </a:rPr>
                <a:t>Финляндский мост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7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99880" y="4800240"/>
            <a:ext cx="4278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Банковский_мостик.jpg"/>
          <p:cNvPicPr/>
          <p:nvPr/>
        </p:nvPicPr>
        <p:blipFill>
          <a:blip r:embed="rId1"/>
          <a:srcRect l="4372" t="0" r="43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612612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Заголовок 1"/>
          <p:cNvGrpSpPr/>
          <p:nvPr/>
        </p:nvGrpSpPr>
        <p:grpSpPr>
          <a:xfrm>
            <a:off x="2438280" y="5346720"/>
            <a:ext cx="4480200" cy="1193760"/>
            <a:chOff x="2438280" y="5346720"/>
            <a:chExt cx="4480200" cy="1193760"/>
          </a:xfrm>
        </p:grpSpPr>
        <p:pic>
          <p:nvPicPr>
            <p:cNvPr id="9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438280" y="5346720"/>
              <a:ext cx="44802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ffffff"/>
                  </a:solidFill>
                  <a:latin typeface="Calibri"/>
                </a:rPr>
                <a:t>Банковский мост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9880" y="5799960"/>
            <a:ext cx="427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Большеохтинский.jpg"/>
          <p:cNvPicPr/>
          <p:nvPr/>
        </p:nvPicPr>
        <p:blipFill>
          <a:blip r:embed="rId1"/>
          <a:srcRect l="6047" t="0" r="6047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5571720"/>
            <a:ext cx="5486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Заголовок 1"/>
          <p:cNvGrpSpPr/>
          <p:nvPr/>
        </p:nvGrpSpPr>
        <p:grpSpPr>
          <a:xfrm>
            <a:off x="2571840" y="5413320"/>
            <a:ext cx="4213080" cy="895320"/>
            <a:chOff x="2571840" y="5413320"/>
            <a:chExt cx="4213080" cy="895320"/>
          </a:xfrm>
        </p:grpSpPr>
        <p:pic>
          <p:nvPicPr>
            <p:cNvPr id="9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71840" y="5413320"/>
              <a:ext cx="42130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Большеохтинский  мос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2840" y="1379520"/>
            <a:ext cx="8496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вание города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зображения символов города.</a:t>
            </a:r>
            <a:br>
              <a:rPr sz="4400"/>
            </a:b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ициалы автора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900000" y="54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держание эскиз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849240"/>
            <a:ext cx="835344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ранить иголки и булавки в определенном месте (подушечке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обке и пр.), не оставлять их на рабочем месте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    Не пользоваться при работе ржавыми иголками и булавки, ни в коем случае не брать иголки и булавки в рот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    Шить иголками только с наперст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   Ножницы хранить в определенном месте, класть их сомкнутыми острыми концами от себя, передавать друг другу ручками впере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   Не откусывать нитки зубами, а отрезать их ножниц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  По окончании работы убрать за собой рабочее место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50920" y="2570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бования безопасности во врем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82840" y="333360"/>
            <a:ext cx="3833640" cy="591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720" y="188640"/>
            <a:ext cx="3394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мер рабоче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900000" y="333360"/>
            <a:ext cx="4392720" cy="597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187280" y="1125360"/>
            <a:ext cx="3745080" cy="3967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Прямая со стрелкой 7"/>
          <p:cNvCxnSpPr/>
          <p:nvPr/>
        </p:nvCxnSpPr>
        <p:spPr>
          <a:xfrm>
            <a:off x="1331640" y="1844280"/>
            <a:ext cx="360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"/>
          <p:cNvCxnSpPr/>
          <p:nvPr/>
        </p:nvCxnSpPr>
        <p:spPr>
          <a:xfrm flipH="1">
            <a:off x="1186920" y="1844280"/>
            <a:ext cx="2718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TextBox 10"/>
          <p:cNvSpPr/>
          <p:nvPr/>
        </p:nvSpPr>
        <p:spPr>
          <a:xfrm>
            <a:off x="2286000" y="112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13"/>
          <p:cNvCxnSpPr/>
          <p:nvPr/>
        </p:nvCxnSpPr>
        <p:spPr>
          <a:xfrm flipV="1">
            <a:off x="1692000" y="1125000"/>
            <a:ext cx="1080" cy="396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4"/>
          <p:cNvCxnSpPr/>
          <p:nvPr/>
        </p:nvCxnSpPr>
        <p:spPr>
          <a:xfrm>
            <a:off x="1692000" y="1196640"/>
            <a:ext cx="1080" cy="389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TextBox 23"/>
          <p:cNvSpPr/>
          <p:nvPr/>
        </p:nvSpPr>
        <p:spPr>
          <a:xfrm>
            <a:off x="1763640" y="26748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1"/>
          <p:cNvSpPr/>
          <p:nvPr/>
        </p:nvSpPr>
        <p:spPr>
          <a:xfrm>
            <a:off x="5635800" y="-165240"/>
            <a:ext cx="3394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иентация л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925560" y="2708280"/>
            <a:ext cx="2324160" cy="3236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1116000" y="2997360"/>
            <a:ext cx="1943280" cy="2087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 rot="5400000">
            <a:off x="4464360" y="3753720"/>
            <a:ext cx="1800360" cy="21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"/>
          <p:cNvSpPr/>
          <p:nvPr/>
        </p:nvSpPr>
        <p:spPr>
          <a:xfrm rot="5400000">
            <a:off x="4282920" y="3213000"/>
            <a:ext cx="2228760" cy="3235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941400" y="191916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ниж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032360" y="2781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льбом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5867280" y="-338040"/>
            <a:ext cx="339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кст как над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900000" y="333360"/>
            <a:ext cx="4392720" cy="597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147680" y="446040"/>
            <a:ext cx="396072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 rot="19168800">
            <a:off x="1094040" y="326124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1611360" y="692280"/>
            <a:ext cx="3313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084400" y="1573200"/>
            <a:ext cx="2719440" cy="9208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2"/>
          <a:stretch/>
        </p:blipFill>
        <p:spPr>
          <a:xfrm>
            <a:off x="4260960" y="1504800"/>
            <a:ext cx="920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Заголовок 1"/>
          <p:cNvSpPr/>
          <p:nvPr/>
        </p:nvSpPr>
        <p:spPr>
          <a:xfrm>
            <a:off x="5867280" y="-338040"/>
            <a:ext cx="339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иблиотека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C:\Users\Андрей\Dropbox\Новые учебные 2015\Проект Вышивка\Библиотека изображений\Черное\Адмиралтейство.png"/>
          <p:cNvPicPr/>
          <p:nvPr/>
        </p:nvPicPr>
        <p:blipFill>
          <a:blip r:embed="rId1"/>
          <a:stretch/>
        </p:blipFill>
        <p:spPr>
          <a:xfrm>
            <a:off x="314280" y="2016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Андрей\Dropbox\Новые учебные 2015\Проект Вышивка\Библиотека изображений\Черное\Аничков мост.png"/>
          <p:cNvPicPr/>
          <p:nvPr/>
        </p:nvPicPr>
        <p:blipFill>
          <a:blip r:embed="rId2"/>
          <a:stretch/>
        </p:blipFill>
        <p:spPr>
          <a:xfrm>
            <a:off x="2625840" y="2016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Андрей\Dropbox\Новые учебные 2015\Проект Вышивка\Библиотека изображений\Черное\Белая ночь.png"/>
          <p:cNvPicPr/>
          <p:nvPr/>
        </p:nvPicPr>
        <p:blipFill>
          <a:blip r:embed="rId3"/>
          <a:stretch/>
        </p:blipFill>
        <p:spPr>
          <a:xfrm>
            <a:off x="6916680" y="378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Андрей\Dropbox\Новые учебные 2015\Проект Вышивка\Библиотека изображений\Черное\Сфинкс на Банковском.png"/>
          <p:cNvPicPr/>
          <p:nvPr/>
        </p:nvPicPr>
        <p:blipFill>
          <a:blip r:embed="rId4"/>
          <a:stretch/>
        </p:blipFill>
        <p:spPr>
          <a:xfrm>
            <a:off x="2771640" y="2502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Users\Андрей\Dropbox\Новые учебные 2015\Проект Вышивка\Библиотека изображений\Черное\Мост Ломоносова.png"/>
          <p:cNvPicPr/>
          <p:nvPr/>
        </p:nvPicPr>
        <p:blipFill>
          <a:blip r:embed="rId5"/>
          <a:stretch/>
        </p:blipFill>
        <p:spPr>
          <a:xfrm>
            <a:off x="5116680" y="110016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Андрей\Dropbox\Новые учебные 2015\Проект Вышивка\Библиотека изображений\Черное\Ростральная колонна.jpg"/>
          <p:cNvPicPr/>
          <p:nvPr/>
        </p:nvPicPr>
        <p:blipFill>
          <a:blip r:embed="rId6"/>
          <a:stretch/>
        </p:blipFill>
        <p:spPr>
          <a:xfrm>
            <a:off x="8047080" y="1773360"/>
            <a:ext cx="76212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Андрей\Dropbox\Новые учебные 2015\Проект Вышивка\Библиотека изображений\Черное\Медный всадник 2.png"/>
          <p:cNvPicPr/>
          <p:nvPr/>
        </p:nvPicPr>
        <p:blipFill>
          <a:blip r:embed="rId7"/>
          <a:stretch/>
        </p:blipFill>
        <p:spPr>
          <a:xfrm>
            <a:off x="4892760" y="2141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Андрей\Dropbox\Новые учебные 2015\Проект Вышивка\Библиотека изображений\Для эскиза\Ограда набережной Макарова.jpg"/>
          <p:cNvPicPr/>
          <p:nvPr/>
        </p:nvPicPr>
        <p:blipFill>
          <a:blip r:embed="rId8"/>
          <a:stretch/>
        </p:blipFill>
        <p:spPr>
          <a:xfrm>
            <a:off x="6648480" y="5680080"/>
            <a:ext cx="2160720" cy="93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C:\Users\Андрей\Dropbox\Новые учебные 2015\Проект Вышивка\Библиотека изображений\Для эскиза\Ограда набережной реки Фонтанки.jpg"/>
          <p:cNvPicPr/>
          <p:nvPr/>
        </p:nvPicPr>
        <p:blipFill>
          <a:blip r:embed="rId9"/>
          <a:stretch/>
        </p:blipFill>
        <p:spPr>
          <a:xfrm>
            <a:off x="3890880" y="5665680"/>
            <a:ext cx="2160720" cy="101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:\Users\Андрей\Dropbox\Новые учебные 2015\Проект Вышивка\Библиотека изображений\Для эскиза\Фонарь4.png"/>
          <p:cNvPicPr/>
          <p:nvPr/>
        </p:nvPicPr>
        <p:blipFill>
          <a:blip r:embed="rId10"/>
          <a:stretch/>
        </p:blipFill>
        <p:spPr>
          <a:xfrm>
            <a:off x="5253120" y="4383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Андрей\Dropbox\Новые учебные 2015\Проект Вышивка\Библиотека изображений\Для эскиза\Иванов А Решётка Летнего сада.bmp"/>
          <p:cNvPicPr/>
          <p:nvPr/>
        </p:nvPicPr>
        <p:blipFill>
          <a:blip r:embed="rId11"/>
          <a:srcRect l="18236" t="0" r="0" b="0"/>
          <a:stretch/>
        </p:blipFill>
        <p:spPr>
          <a:xfrm>
            <a:off x="0" y="4487760"/>
            <a:ext cx="1809720" cy="21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C:\Users\Андрей\Dropbox\Новые учебные 2015\Проект Вышивка\Библиотека изображений\Библиотека изображений\Исаакий.jpg"/>
          <p:cNvPicPr/>
          <p:nvPr/>
        </p:nvPicPr>
        <p:blipFill>
          <a:blip r:embed="rId12"/>
          <a:stretch/>
        </p:blipFill>
        <p:spPr>
          <a:xfrm>
            <a:off x="204840" y="2222640"/>
            <a:ext cx="233532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C:\Users\Андрей\Dropbox\Новые учебные 2015\Проект Вышивка\Библиотека изображений\Библиотека изображений\Арка Глпвного штаба.jpg"/>
          <p:cNvPicPr/>
          <p:nvPr/>
        </p:nvPicPr>
        <p:blipFill>
          <a:blip r:embed="rId13"/>
          <a:stretch/>
        </p:blipFill>
        <p:spPr>
          <a:xfrm>
            <a:off x="1989000" y="4516560"/>
            <a:ext cx="199404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Андрей\Dropbox\Новые учебные 2015\Проект Вышивка\Библиотека изображений\Черное\кошки4.png"/>
          <p:cNvPicPr/>
          <p:nvPr/>
        </p:nvPicPr>
        <p:blipFill>
          <a:blip r:embed="rId14"/>
          <a:stretch/>
        </p:blipFill>
        <p:spPr>
          <a:xfrm>
            <a:off x="2144880" y="236232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920" y="1989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эскиза вышивки </a:t>
            </a:r>
            <a:br>
              <a:rPr sz="4400"/>
            </a:b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Мой Петербур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00000" y="54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урока</a:t>
            </a:r>
            <a:r>
              <a:rPr b="0" lang="ru-RU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8"/>
          <p:cNvSpPr/>
          <p:nvPr/>
        </p:nvSpPr>
        <p:spPr>
          <a:xfrm>
            <a:off x="900000" y="333360"/>
            <a:ext cx="4392720" cy="597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1160640" y="585720"/>
            <a:ext cx="3987720" cy="4643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7" descr=""/>
          <p:cNvPicPr/>
          <p:nvPr/>
        </p:nvPicPr>
        <p:blipFill>
          <a:blip r:embed="rId1"/>
          <a:stretch/>
        </p:blipFill>
        <p:spPr>
          <a:xfrm>
            <a:off x="1163520" y="1060560"/>
            <a:ext cx="1025640" cy="3328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2200320" y="593640"/>
            <a:ext cx="3308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stra"/>
              </a:rPr>
              <a:t>Санкт-Петербур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4" descr=""/>
          <p:cNvPicPr/>
          <p:nvPr/>
        </p:nvPicPr>
        <p:blipFill>
          <a:blip r:embed="rId2"/>
          <a:stretch/>
        </p:blipFill>
        <p:spPr>
          <a:xfrm>
            <a:off x="1139760" y="3700440"/>
            <a:ext cx="2395440" cy="1590840"/>
          </a:xfrm>
          <a:prstGeom prst="rect">
            <a:avLst/>
          </a:prstGeom>
          <a:ln w="0">
            <a:noFill/>
          </a:ln>
        </p:spPr>
      </p:pic>
      <p:sp>
        <p:nvSpPr>
          <p:cNvPr id="147" name="Надпись 2"/>
          <p:cNvSpPr/>
          <p:nvPr/>
        </p:nvSpPr>
        <p:spPr>
          <a:xfrm>
            <a:off x="3949560" y="4413240"/>
            <a:ext cx="1001880" cy="744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Mistr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Mistr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019920" y="-185760"/>
            <a:ext cx="33955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ёрстка эск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3"/>
          <a:stretch/>
        </p:blipFill>
        <p:spPr>
          <a:xfrm rot="217800">
            <a:off x="2312640" y="2277720"/>
            <a:ext cx="23605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8"/>
          <p:cNvSpPr/>
          <p:nvPr/>
        </p:nvSpPr>
        <p:spPr>
          <a:xfrm>
            <a:off x="900000" y="333360"/>
            <a:ext cx="4392720" cy="597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1224000" y="555480"/>
            <a:ext cx="3743280" cy="467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258920" y="577800"/>
            <a:ext cx="33843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ndantino script"/>
              </a:rPr>
              <a:t>Санкт-Петербур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адпись 2"/>
          <p:cNvSpPr/>
          <p:nvPr/>
        </p:nvSpPr>
        <p:spPr>
          <a:xfrm>
            <a:off x="1332000" y="4437000"/>
            <a:ext cx="701640" cy="647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5867280" y="-338040"/>
            <a:ext cx="339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ёрстка эск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1973160" y="2265480"/>
            <a:ext cx="29941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3"/>
          <p:cNvGrpSpPr/>
          <p:nvPr/>
        </p:nvGrpSpPr>
        <p:grpSpPr>
          <a:xfrm>
            <a:off x="642600" y="1654200"/>
            <a:ext cx="5977080" cy="4392720"/>
            <a:chOff x="642600" y="1654200"/>
            <a:chExt cx="5977080" cy="4392720"/>
          </a:xfrm>
        </p:grpSpPr>
        <p:sp>
          <p:nvSpPr>
            <p:cNvPr id="157" name="Прямоугольник 8"/>
            <p:cNvSpPr/>
            <p:nvPr/>
          </p:nvSpPr>
          <p:spPr>
            <a:xfrm rot="5400000">
              <a:off x="1434600" y="861840"/>
              <a:ext cx="4392720" cy="5977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Прямоугольник 9"/>
            <p:cNvSpPr/>
            <p:nvPr/>
          </p:nvSpPr>
          <p:spPr>
            <a:xfrm rot="5400000">
              <a:off x="1815120" y="1526040"/>
              <a:ext cx="3745080" cy="46483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188720" y="1852920"/>
              <a:ext cx="305424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627360" y="1767600"/>
              <a:ext cx="1024200" cy="42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Надпись 2"/>
          <p:cNvSpPr/>
          <p:nvPr/>
        </p:nvSpPr>
        <p:spPr>
          <a:xfrm>
            <a:off x="5351400" y="5251320"/>
            <a:ext cx="660600" cy="447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str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5867280" y="-338040"/>
            <a:ext cx="339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ёрстка эск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" descr=""/>
          <p:cNvPicPr/>
          <p:nvPr/>
        </p:nvPicPr>
        <p:blipFill>
          <a:blip r:embed="rId3"/>
          <a:stretch/>
        </p:blipFill>
        <p:spPr>
          <a:xfrm>
            <a:off x="3635280" y="2490840"/>
            <a:ext cx="2984760" cy="2984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"/>
          <p:cNvPicPr/>
          <p:nvPr/>
        </p:nvPicPr>
        <p:blipFill>
          <a:blip r:embed="rId4"/>
          <a:stretch/>
        </p:blipFill>
        <p:spPr>
          <a:xfrm>
            <a:off x="1219320" y="2781360"/>
            <a:ext cx="2747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 rot="5400000">
            <a:off x="1815480" y="1526040"/>
            <a:ext cx="3744720" cy="4648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Группа 3"/>
          <p:cNvGrpSpPr/>
          <p:nvPr/>
        </p:nvGrpSpPr>
        <p:grpSpPr>
          <a:xfrm>
            <a:off x="642600" y="1654200"/>
            <a:ext cx="5977080" cy="4392720"/>
            <a:chOff x="642600" y="1654200"/>
            <a:chExt cx="5977080" cy="4392720"/>
          </a:xfrm>
        </p:grpSpPr>
        <p:sp>
          <p:nvSpPr>
            <p:cNvPr id="167" name="Прямоугольник 5"/>
            <p:cNvSpPr/>
            <p:nvPr/>
          </p:nvSpPr>
          <p:spPr>
            <a:xfrm rot="5400000">
              <a:off x="1434600" y="861840"/>
              <a:ext cx="4392720" cy="5977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Прямоугольник 6"/>
            <p:cNvSpPr/>
            <p:nvPr/>
          </p:nvSpPr>
          <p:spPr>
            <a:xfrm rot="5400000">
              <a:off x="1871280" y="1469520"/>
              <a:ext cx="3745080" cy="4761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WordArt 2"/>
          <p:cNvSpPr txBox="1"/>
          <p:nvPr/>
        </p:nvSpPr>
        <p:spPr>
          <a:xfrm>
            <a:off x="1835280" y="2133720"/>
            <a:ext cx="39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70" name="Рисунок 15" descr=""/>
          <p:cNvPicPr/>
          <p:nvPr/>
        </p:nvPicPr>
        <p:blipFill>
          <a:blip r:embed="rId1"/>
          <a:stretch/>
        </p:blipFill>
        <p:spPr>
          <a:xfrm>
            <a:off x="2035080" y="2394000"/>
            <a:ext cx="3760920" cy="29131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7" descr=""/>
          <p:cNvPicPr/>
          <p:nvPr/>
        </p:nvPicPr>
        <p:blipFill>
          <a:blip r:embed="rId2"/>
          <a:srcRect l="0" t="0" r="0" b="16725"/>
          <a:stretch/>
        </p:blipFill>
        <p:spPr>
          <a:xfrm>
            <a:off x="1401840" y="4875120"/>
            <a:ext cx="2919240" cy="8924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8" descr=""/>
          <p:cNvPicPr/>
          <p:nvPr/>
        </p:nvPicPr>
        <p:blipFill>
          <a:blip r:embed="rId3"/>
          <a:srcRect l="0" t="0" r="0" b="16725"/>
          <a:stretch/>
        </p:blipFill>
        <p:spPr>
          <a:xfrm>
            <a:off x="3203640" y="4875120"/>
            <a:ext cx="2921040" cy="892440"/>
          </a:xfrm>
          <a:prstGeom prst="rect">
            <a:avLst/>
          </a:prstGeom>
          <a:ln w="0">
            <a:noFill/>
          </a:ln>
        </p:spPr>
      </p:pic>
      <p:sp>
        <p:nvSpPr>
          <p:cNvPr id="173" name="Надпись 2"/>
          <p:cNvSpPr/>
          <p:nvPr/>
        </p:nvSpPr>
        <p:spPr>
          <a:xfrm>
            <a:off x="4322880" y="4941720"/>
            <a:ext cx="714240" cy="462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Mistr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Mistr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5867280" y="-338040"/>
            <a:ext cx="339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ёрстка эск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1"/>
          <p:cNvSpPr/>
          <p:nvPr/>
        </p:nvSpPr>
        <p:spPr>
          <a:xfrm>
            <a:off x="361800" y="981000"/>
            <a:ext cx="52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тавка - Рису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361800" y="1928880"/>
            <a:ext cx="52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тавка - Надпи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361800" y="2874960"/>
            <a:ext cx="939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ат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текание текстом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воз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Заголовок 1"/>
          <p:cNvSpPr/>
          <p:nvPr/>
        </p:nvSpPr>
        <p:spPr>
          <a:xfrm>
            <a:off x="361800" y="382284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ат – Порядок – Вперед ( Назад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5435640" y="-208080"/>
            <a:ext cx="3708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менты</a:t>
            </a:r>
            <a:br>
              <a:rPr sz="4400"/>
            </a:b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83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ложить файл в сетевую папку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названием </a:t>
            </a:r>
            <a:br>
              <a:rPr sz="4400"/>
            </a:b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Эскиз ФИО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piter_12.jpg"/>
          <p:cNvPicPr/>
          <p:nvPr/>
        </p:nvPicPr>
        <p:blipFill>
          <a:blip r:embed="rId1"/>
          <a:stretch/>
        </p:blipFill>
        <p:spPr>
          <a:xfrm>
            <a:off x="-928800" y="-54000"/>
            <a:ext cx="10368000" cy="7126200"/>
          </a:xfrm>
          <a:prstGeom prst="rect">
            <a:avLst/>
          </a:prstGeom>
          <a:ln w="0">
            <a:noFill/>
          </a:ln>
        </p:spPr>
      </p:pic>
      <p:pic>
        <p:nvPicPr>
          <p:cNvPr id="183" name="melodi.mp3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20304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16958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414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00000" y="54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920" y="1989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учиться создавать</a:t>
            </a:r>
            <a:br>
              <a:rPr sz="4000"/>
            </a:b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эскиз вышивки </a:t>
            </a:r>
            <a:br>
              <a:rPr sz="4000"/>
            </a:b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мощи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684360" y="1628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ть эскиз рисунка вышив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ечатать готовый эскиз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вести эскиз на ткань </a:t>
            </a:r>
            <a:br>
              <a:rPr sz="4000"/>
            </a:b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мощи </a:t>
            </a:r>
            <a:br>
              <a:rPr sz="4000"/>
            </a:b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пировальной бумаг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ступить к вышиванию</a:t>
            </a:r>
            <a:r>
              <a:rPr b="0" lang="en-US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900000" y="54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кторина «Знаете ли вы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199.jpg"/>
          <p:cNvPicPr/>
          <p:nvPr/>
        </p:nvPicPr>
        <p:blipFill>
          <a:blip r:embed="rId1"/>
          <a:stretch/>
        </p:blipFill>
        <p:spPr>
          <a:xfrm>
            <a:off x="755640" y="955800"/>
            <a:ext cx="7291440" cy="5468760"/>
          </a:xfrm>
          <a:prstGeom prst="rect">
            <a:avLst/>
          </a:prstGeom>
          <a:ln w="0">
            <a:noFill/>
          </a:ln>
        </p:spPr>
      </p:pic>
      <p:grpSp>
        <p:nvGrpSpPr>
          <p:cNvPr id="52" name="Заголовок 1"/>
          <p:cNvGrpSpPr/>
          <p:nvPr/>
        </p:nvGrpSpPr>
        <p:grpSpPr>
          <a:xfrm>
            <a:off x="2451240" y="5346720"/>
            <a:ext cx="4449600" cy="1193760"/>
            <a:chOff x="2451240" y="5346720"/>
            <a:chExt cx="4449600" cy="1193760"/>
          </a:xfrm>
        </p:grpSpPr>
        <p:pic>
          <p:nvPicPr>
            <p:cNvPr id="5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451240" y="5346720"/>
              <a:ext cx="44496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ffffff"/>
                  </a:solidFill>
                  <a:latin typeface="Calibri"/>
                </a:rPr>
                <a:t>Дворцовый мост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hotograph-svadba.ru/wp-content/uploads/298611Vantoviimost.jpg"/>
          <p:cNvPicPr/>
          <p:nvPr/>
        </p:nvPicPr>
        <p:blipFill>
          <a:blip r:embed="rId2"/>
          <a:stretch/>
        </p:blipFill>
        <p:spPr>
          <a:xfrm>
            <a:off x="-857160" y="0"/>
            <a:ext cx="10620360" cy="7072200"/>
          </a:xfrm>
          <a:prstGeom prst="rect">
            <a:avLst/>
          </a:prstGeom>
          <a:ln w="0">
            <a:noFill/>
          </a:ln>
        </p:spPr>
      </p:pic>
      <p:grpSp>
        <p:nvGrpSpPr>
          <p:cNvPr id="59" name="Заголовок 1"/>
          <p:cNvGrpSpPr/>
          <p:nvPr/>
        </p:nvGrpSpPr>
        <p:grpSpPr>
          <a:xfrm>
            <a:off x="2498760" y="5303880"/>
            <a:ext cx="4359240" cy="1279440"/>
            <a:chOff x="2498760" y="5303880"/>
            <a:chExt cx="4359240" cy="1279440"/>
          </a:xfrm>
        </p:grpSpPr>
        <p:pic>
          <p:nvPicPr>
            <p:cNvPr id="60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2498760" y="5303880"/>
              <a:ext cx="4359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антовый мос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57720" y="5285520"/>
            <a:ext cx="3921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857560"/>
            <a:ext cx="5486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arm5.static.flickr.com/4016/4642391068_8e9f06c4ee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279000" cy="6959520"/>
          </a:xfrm>
          <a:prstGeom prst="rect">
            <a:avLst/>
          </a:prstGeom>
          <a:ln w="0">
            <a:noFill/>
          </a:ln>
        </p:spPr>
      </p:pic>
      <p:grpSp>
        <p:nvGrpSpPr>
          <p:cNvPr id="65" name="Заголовок 1"/>
          <p:cNvGrpSpPr/>
          <p:nvPr/>
        </p:nvGrpSpPr>
        <p:grpSpPr>
          <a:xfrm>
            <a:off x="2554200" y="5522760"/>
            <a:ext cx="4395960" cy="1011240"/>
            <a:chOff x="2554200" y="5522760"/>
            <a:chExt cx="4395960" cy="1011240"/>
          </a:xfrm>
        </p:grpSpPr>
        <p:pic>
          <p:nvPicPr>
            <p:cNvPr id="6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4200" y="5522760"/>
              <a:ext cx="43959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700360" y="5589720"/>
              <a:ext cx="41036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Calibri"/>
                </a:rPr>
                <a:t>Исаакиевский собор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www.maxverona.ru/pics/PicGallary/City/Mosty/3.jpg"/>
          <p:cNvPicPr/>
          <p:nvPr/>
        </p:nvPicPr>
        <p:blipFill>
          <a:blip r:embed="rId1"/>
          <a:srcRect l="26008" t="0" r="26008" b="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71" name="Заголовок 1"/>
          <p:cNvGrpSpPr/>
          <p:nvPr/>
        </p:nvGrpSpPr>
        <p:grpSpPr>
          <a:xfrm>
            <a:off x="2511360" y="5303880"/>
            <a:ext cx="4327560" cy="1279440"/>
            <a:chOff x="2511360" y="5303880"/>
            <a:chExt cx="4327560" cy="1279440"/>
          </a:xfrm>
        </p:grpSpPr>
        <p:pic>
          <p:nvPicPr>
            <p:cNvPr id="7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11360" y="5303880"/>
              <a:ext cx="4327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Троицкий мос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7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worldtemples.ru/images/stories/images4/01/Church-of-the-Savior-on-Blood.jpg"/>
          <p:cNvPicPr/>
          <p:nvPr/>
        </p:nvPicPr>
        <p:blipFill>
          <a:blip r:embed="rId1"/>
          <a:srcRect l="1852" t="0" r="1852" b="0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grpSp>
        <p:nvGrpSpPr>
          <p:cNvPr id="77" name="Заголовок 1"/>
          <p:cNvGrpSpPr/>
          <p:nvPr/>
        </p:nvGrpSpPr>
        <p:grpSpPr>
          <a:xfrm>
            <a:off x="2505240" y="5413320"/>
            <a:ext cx="4346280" cy="938160"/>
            <a:chOff x="2505240" y="5413320"/>
            <a:chExt cx="4346280" cy="938160"/>
          </a:xfrm>
        </p:grpSpPr>
        <p:pic>
          <p:nvPicPr>
            <p:cNvPr id="7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05240" y="5413320"/>
              <a:ext cx="4346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627280" y="5445000"/>
              <a:ext cx="4105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ffffff"/>
                  </a:solidFill>
                  <a:latin typeface="Calibri"/>
                </a:rPr>
                <a:t>Храм Спаса- на- Крови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6-04-05T20:14:22Z</dcterms:modified>
  <cp:revision>107</cp:revision>
  <dc:subject/>
  <dc:title>Слайд 1</dc:title>
</cp:coreProperties>
</file>